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8145"/>
        <c:axId val="26767931"/>
      </c:barChart>
      <c:catAx>
        <c:axId val="6288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7931"/>
        <c:crosses val="autoZero"/>
        <c:auto val="1"/>
        <c:lblAlgn val="ctr"/>
        <c:lblOffset val="100"/>
        <c:noMultiLvlLbl val="0"/>
      </c:catAx>
      <c:valAx>
        <c:axId val="26767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8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6A2-76E8-459D-AB01-68604224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54A-0D1E-4AC3-BAB9-27ED77EE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BFD-2419-4E4E-9F65-6AF6963D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3A4-FFE2-46A7-94E5-79B86A5D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377F-8A08-4247-8634-111ADC0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7B1D-E738-4359-92B6-ED436408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C3B-E015-42DA-A9B9-5BA7FFF3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CFA-127B-4999-A3C5-12378B00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2DA-6C52-4541-9CD0-FC378E2E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A716-7444-40B8-A49B-5497A811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9C0-E1C4-4876-AC0C-45119C6D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CBAB-F2B7-4A4A-924B-068DA8E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BDA6F-DF49-4F4A-997C-8C017BB257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