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42106"/>
        <c:axId val="8705371"/>
      </c:barChart>
      <c:catAx>
        <c:axId val="56442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5371"/>
        <c:crosses val="autoZero"/>
        <c:auto val="1"/>
        <c:lblAlgn val="ctr"/>
        <c:lblOffset val="100"/>
        <c:noMultiLvlLbl val="0"/>
      </c:catAx>
      <c:valAx>
        <c:axId val="8705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42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50A-6C38-4C87-A755-50DCC3D6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3BA-0055-4FC9-AD39-C4E34072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0630-5587-4132-A313-8104780B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42D-1B6F-4FFD-9D58-B517B948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8FA-F374-424F-BCF9-03652E99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706-6216-4D83-9DAE-9F486B97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9E4-4C97-442F-96AB-0FC620F8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ED2-EA83-49D5-A419-5675A89B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8BC-4BE3-4794-8782-BEF1F1E4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6C4-B35B-4F58-96DB-66B7DD50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5631-EFD5-42A8-A00C-A98E3851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366-51CC-4A44-9715-21D5893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E16E6-F627-4E83-A71E-CCB6BB732A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