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31046"/>
        <c:axId val="84290316"/>
      </c:barChart>
      <c:catAx>
        <c:axId val="98031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90316"/>
        <c:crosses val="autoZero"/>
        <c:auto val="1"/>
        <c:lblAlgn val="ctr"/>
        <c:lblOffset val="100"/>
        <c:noMultiLvlLbl val="0"/>
      </c:catAx>
      <c:valAx>
        <c:axId val="84290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31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86D-0046-49DC-8A3F-8F3BCA1A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D31-349F-4846-9BF2-B0A9BA18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7CF-3C1E-4B6D-80CC-D7C899DB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2C4-722E-4F2E-AB91-D39CD5FD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744-382D-4A41-B5BC-A5FF6967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13A-4174-48D2-AC83-35D89AC6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F6B-49DB-40BD-8A2C-765F7DF4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879-AD8D-4E00-886E-2D95931F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7C9-7662-44BD-B76A-8FB1DF93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DBB-EB44-48AC-BBCD-7FDF5C1D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D45-894F-4063-BA94-4DA84753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238-A33F-43CD-93E9-009590E5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4DB12-13D3-4449-BACC-71263DF1A2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