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524557"/>
        <c:axId val="65214418"/>
      </c:barChart>
      <c:catAx>
        <c:axId val="745245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14418"/>
        <c:crosses val="autoZero"/>
        <c:auto val="1"/>
        <c:lblAlgn val="ctr"/>
        <c:lblOffset val="100"/>
        <c:noMultiLvlLbl val="0"/>
      </c:catAx>
      <c:valAx>
        <c:axId val="65214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245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C765-4F5B-40C6-B177-9989BC40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32A-E20F-47AD-9E4A-7FC2ED57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0AED-CADA-4E8C-9599-331BB320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980D-64DD-48FF-9E64-1509FEEB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DD70-6B55-49DA-9048-079F8E08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F9C7-C0D4-4D06-87FC-A70AF1B1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428-4F2E-472E-B2C7-4C1178BF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EC94-4783-4EA1-94E0-05FC91C2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C6DC-FA76-4443-B602-F14877B5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11B9-2116-4C88-93DE-1CFDACED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0BD-D57F-4266-BD18-F3FF379E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A288-4808-4FCE-9DB6-AAC2DD32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6B6AF-E45A-4687-8489-535FCB09AB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