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05981"/>
        <c:axId val="85786315"/>
      </c:barChart>
      <c:catAx>
        <c:axId val="66505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86315"/>
        <c:crosses val="autoZero"/>
        <c:auto val="1"/>
        <c:lblAlgn val="ctr"/>
        <c:lblOffset val="100"/>
        <c:noMultiLvlLbl val="0"/>
      </c:catAx>
      <c:valAx>
        <c:axId val="85786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05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39E-F19D-406A-A0F2-19F065B0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2F0-7C4D-450B-9233-AD837076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6508-7B59-4286-A564-F62B71AD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A95-9C63-49B9-8F07-18D82FB0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2B7-58CC-4EAE-A77A-AA0E2DE1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9D2-F585-475E-B370-C8557A60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4BD-BBB9-428A-9182-D9906653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D3F-C42C-414F-A3C0-B58DCDC8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AF3-7410-4C1A-9B2B-740489F0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3A9-DA5F-4AD6-9455-3E9FB45E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4DD-673A-4B08-8F82-6DDF0525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6D7F-4781-4ACB-A3A2-023C5FD5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4E27B-3898-4F50-AC1F-8D7F468BCD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