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83730"/>
        <c:axId val="678139"/>
      </c:barChart>
      <c:catAx>
        <c:axId val="23183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139"/>
        <c:crosses val="autoZero"/>
        <c:auto val="1"/>
        <c:lblAlgn val="ctr"/>
        <c:lblOffset val="100"/>
        <c:noMultiLvlLbl val="0"/>
      </c:catAx>
      <c:valAx>
        <c:axId val="678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83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FA0-BEBA-462B-ABAA-02FAF727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4FD-7845-4A9C-8F02-4AA8304F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5F6-9704-469D-982A-F0283F3B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9E0-B4BA-4C12-8C6E-1FDCA1C3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DCE-82F7-4454-9586-B49B5FDB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F86-966E-46AE-93A6-C3F59240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D0F-C736-4705-9364-67BE6F4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FDF-A6B2-421B-8D56-48B3722B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81C-05C0-4BE7-95E0-B494039E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EB3-A96C-4CE0-903E-6D51D26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2CE-11D6-470E-973A-F29D452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48D-9B7A-454B-963E-D644624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D2F34-7478-4F2D-9AB2-8DA734FD26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