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99713"/>
        <c:axId val="6759046"/>
      </c:barChart>
      <c:catAx>
        <c:axId val="75799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9046"/>
        <c:crosses val="autoZero"/>
        <c:auto val="1"/>
        <c:lblAlgn val="ctr"/>
        <c:lblOffset val="100"/>
        <c:noMultiLvlLbl val="0"/>
      </c:catAx>
      <c:valAx>
        <c:axId val="6759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99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A7C-E8E6-4E40-85D9-54708DCF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21A-0D7C-47C1-87F6-1B281DB4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A4E-CB64-43FF-A05D-A3E64974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63B-30E5-47DE-9D91-305780CF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4EF-A549-4130-85FC-B6BA9652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D67-BB92-4554-B0C1-F15A7DED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098-34E6-4C57-9D60-0881FA4F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4D8-90CD-4C68-A0FE-51A84E81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E93-3855-4508-9FAA-4120DE61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478-FAA3-4E68-9C13-31EED76C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EBD-5826-49C3-A783-61495F6B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855-E50D-48F8-8191-67902634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D6B71-23F0-46B5-BD6F-3823BD46C9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