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575160"/>
        <c:axId val="32754883"/>
      </c:barChart>
      <c:catAx>
        <c:axId val="285751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754883"/>
        <c:crosses val="autoZero"/>
        <c:auto val="1"/>
        <c:lblAlgn val="ctr"/>
        <c:lblOffset val="100"/>
        <c:noMultiLvlLbl val="0"/>
      </c:catAx>
      <c:valAx>
        <c:axId val="327548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5751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2623-57DB-4E4D-AB28-EC8560D5B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53B4-DBC4-48AC-974A-AC055924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C529-FF70-41EF-9EEA-7C5B31845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F6B3-5738-4FDF-89EB-93D302CC9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45EA-D08D-42EA-AE10-0E6ADFF5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3AD4-1F7D-45A9-A0A1-8B4E25EA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AE90-8217-4129-9E53-A9DEB8DA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7E2B-3E45-46D5-84A1-43CAA94F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A16B-6023-42C7-9733-BBBD12F5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5A09-3243-482D-AB3A-A2197BF9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1394-4012-41D8-960C-455E073D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7B83-725E-4B59-B14D-2A022959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EFC330-D917-4FC8-BF7A-3499BAE253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