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29339"/>
        <c:axId val="74428728"/>
      </c:barChart>
      <c:catAx>
        <c:axId val="44029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28728"/>
        <c:crosses val="autoZero"/>
        <c:auto val="1"/>
        <c:lblAlgn val="ctr"/>
        <c:lblOffset val="100"/>
        <c:noMultiLvlLbl val="0"/>
      </c:catAx>
      <c:valAx>
        <c:axId val="74428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29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092-EA76-4971-9F29-37E79A12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1B9-B954-4F15-A3C7-43A1052A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9EF-F547-4F08-ACA8-81709991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C66-447C-4851-9666-AF80D093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E49-69E9-412B-8B04-F70DC044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1A7-B782-4A87-BCDE-8D87DB32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2D5-3404-492C-B94B-40A80D52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A45-D588-4AF0-A3FC-7329D0D0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3E4-1103-4ED8-AD52-72B493D3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D56-EDDF-40EE-A993-59E744DA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B52-BFB1-4725-B510-0654AD7A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C97-3ECD-4C84-95B2-94DF2D3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76267-3571-45A7-8094-49A8D02482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