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68703"/>
        <c:axId val="28443796"/>
      </c:barChart>
      <c:catAx>
        <c:axId val="40868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3796"/>
        <c:crosses val="autoZero"/>
        <c:auto val="1"/>
        <c:lblAlgn val="ctr"/>
        <c:lblOffset val="100"/>
        <c:noMultiLvlLbl val="0"/>
      </c:catAx>
      <c:valAx>
        <c:axId val="28443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68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8A3-38A7-47AF-8C1C-55B3A033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0A6-C392-40A4-B99B-D97A96E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969-0B42-45BB-9EB8-057B0B14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BFB-5EF7-47EB-94D5-E7E74E46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A7C-5795-4089-9FE1-84A2D676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A9D-0BBD-45C6-9BBE-41782ADE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7CE-5879-46FE-BB32-22E6D81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1B0-3490-4A61-A359-5DBAAE3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C62-28A6-4B7D-B536-0CBFE39D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436-E432-4297-B753-82A504D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D25-89FA-4C5C-90BB-5200EBE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5F1-C9A6-411D-899F-3535E68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1F5E-1203-42BF-97BE-FF17476EE8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