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121341"/>
        <c:axId val="25044586"/>
      </c:barChart>
      <c:catAx>
        <c:axId val="541213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044586"/>
        <c:crosses val="autoZero"/>
        <c:auto val="1"/>
        <c:lblAlgn val="ctr"/>
        <c:lblOffset val="100"/>
        <c:noMultiLvlLbl val="0"/>
      </c:catAx>
      <c:valAx>
        <c:axId val="250445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1213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69C9-4B16-4BE1-8ED7-D56A1B12C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E0EE-0D68-4177-BDA4-274939905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EABA-5185-468F-B4F1-36F5D7D69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AD0F-8705-4413-8347-19F0240A9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C4A0-2D1A-4BA8-A9D9-680BA015E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0EF8-CB5B-431C-AC72-FCB085112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FE03-DBAE-4283-85A0-7A3689772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40C4-C0D7-47C4-B10E-E02CD24F5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079E-15B7-48DB-85DD-ED71A6FB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D52A-47FA-46D7-B35D-97E33D7B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CA06-0A71-4DFB-98F2-2BCAD6CB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E5DF-0B87-4CC1-AA70-718A0C1A4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FF9A2B-9D91-4438-BB10-F89B6C4BD55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