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08188"/>
        <c:axId val="93337643"/>
      </c:barChart>
      <c:catAx>
        <c:axId val="21108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37643"/>
        <c:crosses val="autoZero"/>
        <c:auto val="1"/>
        <c:lblAlgn val="ctr"/>
        <c:lblOffset val="100"/>
        <c:noMultiLvlLbl val="0"/>
      </c:catAx>
      <c:valAx>
        <c:axId val="93337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08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BEC-4721-41AC-8B04-5E483D12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212-A9C9-4FBA-BADE-4F03FE2A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6B4-8179-4C92-97B9-9B0FD30B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045-44B7-41A0-AB6A-5890759F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D04-DF7F-44A1-9ED1-EA4DED05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7AE-D7B0-4356-9914-F9754704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890-41A7-40CE-BF90-D0AF2F83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4D1-47A0-4C48-A685-35714CA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696-476D-4CB4-888A-584DD1E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BB4-D5F0-48F6-B307-0404F416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8E2-B9C3-4771-AA1A-255C07A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C92-D73B-4265-B69C-899E361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1FB2D-4BA7-4532-AB26-3C9E425878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