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816641"/>
        <c:axId val="17881841"/>
      </c:barChart>
      <c:catAx>
        <c:axId val="428166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81841"/>
        <c:crosses val="autoZero"/>
        <c:auto val="1"/>
        <c:lblAlgn val="ctr"/>
        <c:lblOffset val="100"/>
        <c:noMultiLvlLbl val="0"/>
      </c:catAx>
      <c:valAx>
        <c:axId val="178818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8166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0D2E-E890-4478-9D18-6BE777EE8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9E53-1988-4CB1-A552-2D2F3991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1789-E188-421D-8038-08BE67E0F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45C8-2E4A-4FE2-82CC-85216604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246A-A3C4-4B01-AA41-62D41B11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60CB-CA90-4C7C-A007-B68B6917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ED92-EF45-42EC-82B4-D91526FB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A405-6FE7-4F34-B600-D7167A96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2B4E-B073-40F5-95C5-00EA2D81E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DEFA-51FA-46FF-B91A-23C53332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331D-F244-4E71-8387-983322CAC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5BD8-4A02-43D9-BDAC-6A9AA6E2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A74F4-3E5A-47B0-900E-DB5872206E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