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85165"/>
        <c:axId val="38138014"/>
      </c:barChart>
      <c:catAx>
        <c:axId val="73185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38014"/>
        <c:crosses val="autoZero"/>
        <c:auto val="1"/>
        <c:lblAlgn val="ctr"/>
        <c:lblOffset val="100"/>
        <c:noMultiLvlLbl val="0"/>
      </c:catAx>
      <c:valAx>
        <c:axId val="38138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85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632-6FBF-40D6-93B6-0131A4D3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D28-A612-485D-BD2D-EC75CBA2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C94-878F-40EE-A348-DE781015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23D-90F5-4A8D-85F9-C63F5DAE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715-5845-4B14-ADD7-332279AA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60B-41DF-409B-A066-ECD3C98D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3D8-9352-4F22-A083-64BD0679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72A-AE9F-45FD-A4F8-48B7C49A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F6F-5BEF-4CC2-966A-956482D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303-BD73-4B36-A6CA-5792419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55D-0B8C-4726-9BE6-7F2E0CB6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718-430A-411D-99D4-0DD195E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EF39E-4867-4DFD-BE34-5FCE109AAB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