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45466"/>
        <c:axId val="49603171"/>
      </c:barChart>
      <c:catAx>
        <c:axId val="54745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03171"/>
        <c:crosses val="autoZero"/>
        <c:auto val="1"/>
        <c:lblAlgn val="ctr"/>
        <c:lblOffset val="100"/>
        <c:noMultiLvlLbl val="0"/>
      </c:catAx>
      <c:valAx>
        <c:axId val="49603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45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A2A-5374-4E5A-8274-F5539058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8F6-0BC8-4F92-A82D-1282308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D53-E529-42CD-ABBF-DF6CDEB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1E5-2DF5-4EB0-916E-ABD0C58D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975-4C84-4306-808F-6E38C7E5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BD0-E27F-4BDC-B69B-E60A77C7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039-6A84-4521-9AF8-62071873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EB8-7289-4FF6-BC72-106C2C25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68B-BFB6-48D8-AFD1-51C31F1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B60-16F0-4814-8326-7D75B83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D94-AAAD-4A12-825C-F9B7DED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9D7-2ECF-444B-8708-4C46ACD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11C45-90EE-4666-8319-6E988A6A6D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