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37986"/>
        <c:axId val="32571073"/>
      </c:barChart>
      <c:catAx>
        <c:axId val="70537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71073"/>
        <c:crosses val="autoZero"/>
        <c:auto val="1"/>
        <c:lblAlgn val="ctr"/>
        <c:lblOffset val="100"/>
        <c:noMultiLvlLbl val="0"/>
      </c:catAx>
      <c:valAx>
        <c:axId val="32571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37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E23C-612E-4B2F-9A3B-3E7AB04B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0DB-D5DC-4B30-8009-F124266D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5E9-214F-4A09-867B-85EC6DAA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2AF-B1D0-4BF1-8918-3D98188F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587-6F3E-4722-A971-6F7827FC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D1D-CAD3-4B1B-9279-85096896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646-D855-4596-8959-70FA4570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BCE-0701-46A9-ADFE-8AFE4345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99B-996B-4DE8-A018-B772849E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316-8928-413C-A86D-F2B8EBEA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DCB-D085-4947-960F-079F490E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6E8-6ACC-478F-94D8-85BA729F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84700-6699-43AE-8C1F-65525C8CAE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