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54106"/>
        <c:axId val="50489605"/>
      </c:barChart>
      <c:catAx>
        <c:axId val="93454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89605"/>
        <c:crosses val="autoZero"/>
        <c:auto val="1"/>
        <c:lblAlgn val="ctr"/>
        <c:lblOffset val="100"/>
        <c:noMultiLvlLbl val="0"/>
      </c:catAx>
      <c:valAx>
        <c:axId val="50489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54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62A-9C3F-456F-A82E-266C3346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B3D-0B3F-4F60-8D03-2200A7AE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398-09DD-4EE6-B3CA-44395787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074-32A6-45E1-A097-C09F67BC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E51-79AF-4719-9845-A9B2AF0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581-FCFB-4C54-8A62-186C3490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1EF-4184-44D6-A837-F3EBF06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5A0-D041-4BDB-B4D9-FDEAB759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ED4-183F-4308-9A70-4EAB7B34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D6B-BFEC-4961-B845-D5B34B69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291-2067-45DD-ABD1-15A514C1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66C-0DFB-4EBD-A47D-8284420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82D9F-FCBC-4398-AA5C-905E0327E1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