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65585"/>
        <c:axId val="70143740"/>
      </c:barChart>
      <c:catAx>
        <c:axId val="19765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43740"/>
        <c:crosses val="autoZero"/>
        <c:auto val="1"/>
        <c:lblAlgn val="ctr"/>
        <c:lblOffset val="100"/>
        <c:noMultiLvlLbl val="0"/>
      </c:catAx>
      <c:valAx>
        <c:axId val="70143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65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269-24DD-4A40-A8A8-C79AA143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0BB-71E6-460E-981B-B1A6FFA6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DF2-402A-4A09-B24D-522779AE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EF9-C9CA-44D4-B35F-42FFBAF8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284-02E7-4204-9694-63E3D26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923-0A20-402D-B29E-C14C1F90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C18-87D2-4A8F-B927-8A4C49BE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1A4-47E8-4AF2-A51D-4320A374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3AC-F164-47C1-879D-8970C010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992-72D9-43CE-90CE-43BA192B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DAE-4CCC-4261-8652-E076FAB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2AC-5511-44C5-90E2-71723452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E6ACF-05AB-45AD-BB7B-856D8DC42D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