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91283"/>
        <c:axId val="46957912"/>
      </c:barChart>
      <c:catAx>
        <c:axId val="45391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57912"/>
        <c:crosses val="autoZero"/>
        <c:auto val="1"/>
        <c:lblAlgn val="ctr"/>
        <c:lblOffset val="100"/>
        <c:noMultiLvlLbl val="0"/>
      </c:catAx>
      <c:valAx>
        <c:axId val="46957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91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831-062C-48CF-8949-6E221477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30A-A805-4804-AC8D-EE285AC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711-C604-4EF5-B5C7-A6A212E8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3E3-D5F4-4AA0-8D5A-5D2A030A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7EB-6F55-47F4-A332-80C2729A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E70-1C52-4E8F-A497-1124091F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D53-D9F0-485B-AC18-BBB9AC8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856-79F3-41FA-BFC9-1C21BC2C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07B-5F33-4756-A2B8-A6F8569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25E-75CD-417F-B46B-5558165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670-6EF0-423D-B6E0-30706260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F3B-F578-493A-AE5F-C1B12BE7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5F01E-4617-40D0-8543-4B4EB33075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