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04816"/>
        <c:axId val="43283762"/>
      </c:barChart>
      <c:catAx>
        <c:axId val="84404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3762"/>
        <c:crosses val="autoZero"/>
        <c:auto val="1"/>
        <c:lblAlgn val="ctr"/>
        <c:lblOffset val="100"/>
        <c:noMultiLvlLbl val="0"/>
      </c:catAx>
      <c:valAx>
        <c:axId val="43283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4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318-0A81-41B7-BB45-33BA894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40C-AED3-425B-A5C8-B55867F9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3B9-9ED3-4C98-91BD-6537A017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428-4007-40B6-AC38-FA4EF873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F12-468A-40E6-9643-74CBD3E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AFE-49D9-400B-91A4-C0B21F5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0CB-1811-477E-B924-E907E6A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DA3-BFC2-4E96-A1D1-73FC3D58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8D7-FECF-488A-A478-518C183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106-36A7-4C8A-B653-2789CAC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8AF-17C5-41B9-B3F0-2C1B05E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B65-83EB-45F2-9652-E9F9D33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954A2-6415-4007-BFCC-DFE433A241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