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6080315"/>
        <c:axId val="26406811"/>
      </c:barChart>
      <c:catAx>
        <c:axId val="3608031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406811"/>
        <c:crosses val="autoZero"/>
        <c:auto val="1"/>
        <c:lblAlgn val="ctr"/>
        <c:lblOffset val="100"/>
        <c:noMultiLvlLbl val="0"/>
      </c:catAx>
      <c:valAx>
        <c:axId val="2640681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08031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8AD2-8303-42C3-8391-78ED02E18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AF53-20A4-4349-A845-0020EE0F2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83F6-1552-40FE-94A9-1B5C7BDD4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E4C2-F966-4C84-9200-9C62BE8B8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FBEA-5F87-47CB-B44B-4B3A353C3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FBC3-9A54-43F7-ACF8-A48D62A9F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8786-5F28-40B3-BB8E-FDEAEF9C2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A577-5A69-4A00-BA10-5E3E0045B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63FF-691B-45D7-8CB3-57A239C1E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0858-5544-4B46-A9A6-AA3DE5346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612E-9D5F-4636-8201-B4C20FBC8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C720-862B-4425-8F60-4BFDF979E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50B530-3119-4645-BE35-7FC3D61C322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